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96864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6640" y="690120"/>
            <a:ext cx="4613400" cy="346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-360" y="87609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968640" y="87609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7ABB064-6E60-46CC-86FC-DF583C487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68640" y="8761320"/>
            <a:ext cx="3035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33A56DC-366D-4617-AF21-C9B6D88B9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3480" y="438120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6826-7DFD-4728-B27B-FB2E1215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908D-31DB-47AD-9C38-798343D7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6215-5647-421A-A604-8099733B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F933-C567-4DD9-8494-4C058CAB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7DD3-D877-46B9-981C-679D4F11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D76B-07D5-40AD-8ED7-2F6BD616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E368-FAE3-4EB9-8E68-650FA9DE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27F1-E6B4-4044-B2EE-2B4FBF7E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352-5CD8-4E17-B489-3B9B80EF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C6B7-4AC0-4382-B6EA-C00345A4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BDE-EC9D-4FD0-B97B-5AF58182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10FB-AFA3-475C-8383-0891C25D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A33E-FDA0-49E2-B835-2BACD9D29F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880A-BBFE-4A0E-A619-F8F3DC8ACB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pport Contracts Review Board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640" y="1798200"/>
            <a:ext cx="495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8080"/>
                </a:solidFill>
                <a:latin typeface="Arial"/>
              </a:rPr>
              <a:t>Phase II Presentation Guid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Contract Review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89388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MO 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support services being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gram offic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B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decision requeste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SCRB action on this proc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1 appr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 taken and their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urement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 o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estimat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source or competitive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or monitoring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O’s approval, if require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2160" y="1493640"/>
            <a:ext cx="80499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Questions &amp; Issu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Phase 2 consolidate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office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resolutions already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2:38:53Z</dcterms:created>
  <dc:creator/>
  <dc:description/>
  <dc:language>en-US</dc:language>
  <cp:lastModifiedBy/>
  <dcterms:modified xsi:type="dcterms:W3CDTF">2016-01-28T12:39:02Z</dcterms:modified>
  <cp:revision>1</cp:revision>
  <dc:subject/>
  <dc:title/>
</cp:coreProperties>
</file>