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AF4-430B-47E5-89AF-BF51A4BF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0F0-B942-449F-A3E8-17B9500D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229-3F0A-4FAB-8147-D4F7B07B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0B8-2C31-46D9-A798-3874E526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F25-C474-4A6F-B48B-AC1CE6AF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4B4-F35C-4AB0-B456-72D511EB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188-6B1B-4C08-A3DA-30732E25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BA7-93C4-4427-AF37-EE1CCBB2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FEE-0141-4F46-BC9D-15A54382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6B4-95A2-4340-9ADD-D2AB6A9A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03A-CFD4-481F-95D1-88D492EF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C0B-F5FB-422C-BF7B-1D40133F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FBD5-1971-40AB-BDC8-EFD893786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9BDC-8EBF-4BB9-9E8C-98B1E18124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pport Contracts Review Boar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640" y="1798200"/>
            <a:ext cx="495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 Presentation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Contract Review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89388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MO 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support services being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gram offic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B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the decis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prior SCRB action on this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urement Specif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ete or new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period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type o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ource or competitive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or monito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schedule (include phase 2 submission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2f68"/>
                </a:solidFill>
                <a:latin typeface="Arial"/>
              </a:rPr>
              <a:t>Procurement X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issues/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2:40:51Z</dcterms:created>
  <dc:creator/>
  <dc:description/>
  <dc:language>en-US</dc:language>
  <cp:lastModifiedBy/>
  <dcterms:modified xsi:type="dcterms:W3CDTF">2016-01-28T12:41:05Z</dcterms:modified>
  <cp:revision>1</cp:revision>
  <dc:subject/>
  <dc:title/>
</cp:coreProperties>
</file>