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6640" y="690120"/>
            <a:ext cx="461340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7609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68640" y="87609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347A04-F8E8-482A-8F3C-42F153B2C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8640" y="8761320"/>
            <a:ext cx="3035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D471E33-9DEA-4626-B08F-7E0C6F8B1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860-D283-4BBE-99E2-E3902AFE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8C1-D174-4C6A-B8A4-7EEC19C2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8A3E-4CA9-487B-9240-D41BBF22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86D-CDEC-4173-967A-74AD5A0F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D04-77C0-4102-94F0-91E91F4A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1A5-5033-48FB-9462-FC7EDAD3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E81-7184-4394-AB1C-6B77E23D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875-50D7-4E9D-884E-3057A55E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CD2-FB3B-4A4C-B07C-5B9754EE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690-EE04-4B15-B1BB-6B0464E7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5AF-223A-4DED-ABE8-7889C28A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783-32D2-44DB-A61F-8A7CD5F9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E702-2455-4BBC-B6C8-81BF85AB1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5B28-131E-453D-A385-9D98E2DE26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Phase II Presentation Guid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SCRB action on this proc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 appr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taken and their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stimat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O’s approval, if requir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2160" y="1493640"/>
            <a:ext cx="80499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Questions &amp; 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Phase 2 consolidat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offic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resolutions already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38:53Z</dcterms:created>
  <dc:creator/>
  <dc:description/>
  <dc:language>en-US</dc:language>
  <cp:lastModifiedBy/>
  <dcterms:modified xsi:type="dcterms:W3CDTF">2016-01-28T12:39:02Z</dcterms:modified>
  <cp:revision>1</cp:revision>
  <dc:subject/>
  <dc:title/>
</cp:coreProperties>
</file>