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BE9-6359-4AFF-869F-E389F0BC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AC8-1AA4-4C0A-88A9-6ED6D103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B52-E936-4296-98F4-AC3B9149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2C5-9EEA-46C1-B8F3-F165F830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4F6-8DA0-4960-B65A-D3B41DC6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984-0EB6-454B-8895-DF5220A4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B6F-CC2C-4AE8-8249-E5A8B7AD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3F5-79CC-4B08-880A-B14B5FB3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82B-4EBF-4F85-B92A-C3423BEE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ED4-9998-4878-B372-235523C1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343-894B-4337-BD5B-BDD85EE2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DD9-A0A5-4CDA-BAC7-7B2ADD93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7C15-F065-42FC-86B9-AD1CE6E05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6438-8E70-4E70-AB35-FF5B694015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 Presentation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prior SCRB action on this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ete or new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period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type o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schedule (include phase 2 submiss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issues/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40:51Z</dcterms:created>
  <dc:creator/>
  <dc:description/>
  <dc:language>en-US</dc:language>
  <cp:lastModifiedBy/>
  <dcterms:modified xsi:type="dcterms:W3CDTF">2016-01-28T12:41:05Z</dcterms:modified>
  <cp:revision>1</cp:revision>
  <dc:subject/>
  <dc:title/>
</cp:coreProperties>
</file>