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4"/>
          </p:nvPr>
        </p:nvSpPr>
        <p:spPr>
          <a:xfrm>
            <a:off x="396864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96640" y="690120"/>
            <a:ext cx="4613400" cy="346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3480" y="4381200"/>
            <a:ext cx="5137200" cy="41497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5"/>
          </p:nvPr>
        </p:nvSpPr>
        <p:spPr>
          <a:xfrm>
            <a:off x="-360" y="87609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6"/>
          </p:nvPr>
        </p:nvSpPr>
        <p:spPr>
          <a:xfrm>
            <a:off x="3968640" y="87609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4AE97AF-F8D1-4852-9F52-A1EAF1668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68640" y="8761320"/>
            <a:ext cx="30355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4D630D3-80C4-487B-88B8-5C77D89CB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97000" y="690480"/>
            <a:ext cx="4613400" cy="34606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3480" y="4381200"/>
            <a:ext cx="5137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85D5-F14F-40DA-BD9D-A3BCAAC87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3DEC-EFA5-4D03-92A9-C6852B52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CABC-F5BD-4765-AAA6-1FD461CEA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0DA4-1F89-4579-9757-E77003EFC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DEAC-756E-41A7-8A16-B57C2FE3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2CE0-CD0D-4ED1-98AA-10F56CCF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DB1A-AD06-48EE-A385-5A08F6BA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ECCB-6470-4F13-9261-A62770A0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6725-1000-41C8-A197-D029137F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119F-37AC-4029-AAE4-E1EA29DE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BE23-31C6-43EB-B31C-38B403F9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33C6-B753-44E9-A7D8-3844626A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D93D-F82C-48A9-859B-B2BFA20902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862A-1BF3-41A4-AA67-52B864BF34C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25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8" name="Picture 26" descr="NEW FAA LOGO"/>
            <p:cNvPicPr/>
            <p:nvPr/>
          </p:nvPicPr>
          <p:blipFill>
            <a:blip r:embed="rId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 Box 27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Text Box 29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&lt;Presentation Title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0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&lt;Date of Presentation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81" descr="sunrise_plane_powerpoint"/>
          <p:cNvPicPr/>
          <p:nvPr/>
        </p:nvPicPr>
        <p:blipFill>
          <a:blip r:embed="rId2"/>
          <a:stretch/>
        </p:blipFill>
        <p:spPr>
          <a:xfrm>
            <a:off x="5587920" y="0"/>
            <a:ext cx="3556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51"/>
          <p:cNvSpPr/>
          <p:nvPr/>
        </p:nvSpPr>
        <p:spPr>
          <a:xfrm>
            <a:off x="426960" y="4497480"/>
            <a:ext cx="4822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d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080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51" name="Picture 1079" descr="NEW FAA LOGO"/>
            <p:cNvPicPr/>
            <p:nvPr/>
          </p:nvPicPr>
          <p:blipFill>
            <a:blip r:embed="rId3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1071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upport Contracts Review Board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640" y="1798200"/>
            <a:ext cx="4951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8080"/>
                </a:solidFill>
                <a:latin typeface="Arial"/>
              </a:rPr>
              <a:t>Phase II Presentation Guida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1754280" y="449748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 Contract Review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893880" y="487512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PMO Cod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1000080" y="5224320"/>
            <a:ext cx="34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 of the support services being ac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program office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B Specif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the decision requested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SCRB action on this procur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1 appro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 taken and their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urement Specif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 of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estimate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source or competitive proc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or monitoring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O’s approval, if required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2160" y="1493640"/>
            <a:ext cx="804996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Questions &amp; Issu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the Phase 2 consolidated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office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 resolutions already re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8T12:38:53Z</dcterms:created>
  <dc:creator/>
  <dc:description/>
  <dc:language>en-US</dc:language>
  <cp:lastModifiedBy/>
  <dcterms:modified xsi:type="dcterms:W3CDTF">2016-01-28T12:39:02Z</dcterms:modified>
  <cp:revision>1</cp:revision>
  <dc:subject/>
  <dc:title/>
</cp:coreProperties>
</file>