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6864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6640" y="690120"/>
            <a:ext cx="4613400" cy="34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7609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68640" y="87609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E5FA107-7A75-4D06-B261-4134D3195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8640" y="8761320"/>
            <a:ext cx="3035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28C4651-2938-4070-9683-9FF31B674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E3E-AFE8-4728-B45A-DDE2DB97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D8A-8DC9-44D1-B333-9FD58095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254-7F81-429F-B0DA-FB6AE93E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F45-9C6C-46D3-9B73-2F2E85B8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D79-184D-4AC9-B979-BD49DEFD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B30-73E7-4D0F-A367-7B497C2C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9F7-2BE2-479A-8ADD-3BEBA4E3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BAB-BADD-45CE-915C-532346AB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E5A4-C432-4C93-B42B-C28E9BC1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4B7-814B-452E-9669-7AA98017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98B-9895-4063-800B-AEAE930E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FA3-13C3-40BE-A0C0-CA084817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3403-0DAB-4F29-A42A-37CC6C0ACE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5C1A-47F9-4BD2-A816-EACB8A0A14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8080"/>
                </a:solidFill>
                <a:latin typeface="Arial"/>
              </a:rPr>
              <a:t>Phase II Presentation Guid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SCRB action on this proc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 appr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taken and their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estimat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O’s approval, if requir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2160" y="1493640"/>
            <a:ext cx="80499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Questions &amp; Iss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Phase 2 consolidat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offic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resolutions already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38:53Z</dcterms:created>
  <dc:creator/>
  <dc:description/>
  <dc:language>en-US</dc:language>
  <cp:lastModifiedBy/>
  <dcterms:modified xsi:type="dcterms:W3CDTF">2016-01-28T12:39:02Z</dcterms:modified>
  <cp:revision>1</cp:revision>
  <dc:subject/>
  <dc:title/>
</cp:coreProperties>
</file>